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8985-294F-486C-AF6D-204F1381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69FB-F7A1-48D9-A97F-CA09FEB1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8ED0-791D-432B-BE7B-901499AF6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FF64-AA43-4EB5-BDE9-0FEE9C50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8C3-1CD4-4FB8-9BC0-FDCD89CE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DEE8-2BF6-4638-BD16-FC260B41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858C-668A-4F0D-A926-6F8276CB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st of presentation explan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EC4-5B9F-4EA8-B65C-08506411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B00-2E72-48CD-BAAD-B790FE2BD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39E1-FA73-4FA2-AC38-EB321243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6356-03BE-470F-A77E-4DFF5E28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161-4BFA-41A5-A135-ABC71AAB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oose to offer user to save his/hers choice , and to allow user to reset previous saved consent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A38-A5C4-423A-89E9-2A5FA955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78D8-61F6-4BAD-A5A1-FC3D3704D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9515-BFB7-4B24-AF5B-A6EF59E659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96037-D48F-40F6-8C0E-0C5D929E36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3FA4C5-DC4E-4A0D-93D3-CB1DC5BD96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D4A1C-4672-453C-928A-BF2E61FA26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9F171-C5B1-4782-BFB3-2A2D5F9C80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DDD32-12FD-435F-BC51-19652AE479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63140-BD57-4B42-A2B2-F684E5323C0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D9093-D654-4F8F-B78F-3E0A8700E4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BD4BE-FA4C-46C3-B850-F892F67331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DCEB2-83F1-4F3B-A77D-789FB0EF62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C6510-EC49-4424-A997-801478BE2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EEA7-D52B-4117-A8BB-0E59B1EC13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1180-FCBF-42DB-8CAA-2573B20D5B7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C0DE-37A8-459E-B649-2000FFF1A9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E876-7490-44D3-84B5-85C163F658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413C4-6357-4797-BEAB-287162BB59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C243-7F53-44CD-AA0D-3D5210CCEC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B88D-8D93-4589-A14B-A86E57AB9F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9D33-039A-4665-AF8C-66D378A93E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991D-65DF-4CEE-9882-A59C49D49B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E268-A095-4049-AC25-56D57E708B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333F-EFE2-4B6A-BA3A-13F92E084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105B-7BEC-499B-AD96-DFF705C8C6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DFC4-BD19-459D-AEFE-BC87491DAD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ED1AD-15C6-4904-BDE8-B6F6F9367A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B5C08-CB00-473D-9C03-C90DF6EB2D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40031-C246-4EB2-A3A9-AAF5740C0D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DBDF3-3414-4FA1-8475-D510DDA8E1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3E1F1-A85A-4464-A83D-AB36E6D407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D1655-DE15-46E8-AA43-274D5BD1AE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CC2DB-2B97-4457-B08D-CD35F6EFA9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1396A-69FF-40F4-86CB-424DB62B16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94407-CDBF-48E2-8F5A-891CB7BA6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660E3-FA32-4628-9433-040631352F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BD944-0D41-4677-A6E1-0BEF69DF4B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1F5FA-74BA-4E34-B666-0EEEEFA9179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F9264-A095-407C-B85A-B00C14C7AE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F0F8D-DE6A-47C1-95BD-638B35EEF9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275CB-B40B-4103-9FDF-9E80CA1236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BA966-2D22-4E17-9EE1-D68DAD29262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A2DFBF-7056-4E0E-866D-8341A4483DE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4C8407-76EF-4288-A599-3A44AD599D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9BE36E-E37B-4AF4-A71A-0140A2F96F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BF5DA-D9A4-4E9E-B8DD-9D9F20FD66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D6E9C-C47B-4DD4-BF0E-8EA7B4D846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979A7F-43A7-4124-9DD8-ADED71E916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7425C-130B-48A0-BA7D-B5601F26C7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8A062-520F-4E8D-8F9A-8C832333D3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78F0A-386A-48D1-B83C-BFD5B4832FB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2A0DD-96D4-425A-852A-75A8060C416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68D1-BA59-4563-8F77-DD73A2185E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8374-E930-49F4-A83B-8FA5FD58F36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A2E7B-FEB8-44B4-95E4-9530C2B39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D760-A736-4BB3-91C0-3E837FDF5C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90217-85FC-407A-8851-87BE298C56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7F60-D0AE-4BD8-876E-98B3CFE92C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69E88-88E1-496E-B9DD-0A9DC206B6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C506-0CBC-4DBE-9959-EF6ED01CC55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DAE96-FDFA-4267-8B4B-44DAFCDD8E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E0C4-C078-453C-B3A1-95E221E140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517E-BC94-410D-BF90-67EBFA3C0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DB32A-16A5-45EA-8B0B-18BEB312BE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DB73E-6861-42AF-A83A-34527A1B46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5C07E-3807-4D0D-B225-F6F871ECA3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FCE2-C269-4488-98BD-202B5920AC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F205-0C8C-4BC5-80E2-33BB27185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2935-1BDB-4C33-A4EC-6A1C1187EB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6D45-E171-487F-BE96-07E180941A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6BE15-2552-4CC3-982E-6B4F842786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37409-B7D3-432C-B769-E941B39BB1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99105-82E2-4606-BBC6-C04BB0C4AC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7E287-459A-4102-983C-977F77777B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37606-3ED3-4211-8441-F9AD0D1657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6934F-5103-47F0-892F-B7FB817143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D72-39D3-4ECD-9D6F-2036FDBEE9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66D9-B76B-4D6D-A31F-A40709B799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E232-CA13-49E9-BEEE-9752FB95F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1944-762F-44AE-97AE-EA397AA472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6D15-A975-4FF4-AF50-3078DFE4CC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A50-F62C-451C-8413-D6460C9607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116-32B2-4748-8885-2664582463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8E48-4692-4725-8BAE-A96C8D4951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CCC-533A-4388-9F57-1DC64F4D5E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836A-099D-4E65-A449-D26E07D471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C3D4-345E-4CDA-93B4-58AAA04944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26E8-317E-4F4A-877C-133ECF845E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7F92-4DEA-4157-A963-5CBDCA30CB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74755-F4C2-45B1-9A3D-0A45140BD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D36D-8289-48B5-BEE2-F7738D7E7BE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9508C-2891-4F46-87A6-97CB84466D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DE9AB-308F-4D86-AC0F-B8938621BC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08F0C-2CBD-4AF0-A71C-E24720D526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A306A-7F35-4F21-8183-5B6588DA58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3CB58-4424-422E-AAE5-231A47F881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11A3B-2C0D-43F7-ABF7-EA909B8F33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CD884-BFD8-4822-A955-DFC6BF7888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8163A-8F89-433B-A374-A29D728DB0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00C38-E603-41F5-A65F-AE33930D6B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F737C-62A5-409C-8B8B-F964B2FB0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A6CC-D9BF-462F-A1DC-6D4A3B4980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C4624-A916-48C0-B49A-DB52DAC360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F9680-7FCA-4B6D-B5B4-C1CFEE1A28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FB41A-FBB9-4367-BFB0-C28280AF24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060D2-5EBD-4463-B5CF-D51634DF5A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4520E-A9E1-42CB-BA67-090009163E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92E58-D6FF-47FB-9EBA-65997D90EB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21946-B349-43FB-AE70-008F202B3A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05F74-63E9-422F-97AC-805D15C5E1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98BBE-F6EB-4B2B-A453-DB0861CB07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5F4EA-42E0-470E-AD6A-147B60651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EA5A-FE2E-47E7-B0BF-A748CAD16C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6F0E9-5CB0-47EA-B4F2-23A6FD2A8F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4A966-558A-4E7C-8D55-023614C495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3DA1B-C92B-41F7-8D56-E43F72FBFDE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125B-BF1D-4A0A-89FE-ECDF095E94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4962-F150-4F70-90D5-3DCBDF8836B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83B3-AEDD-4103-9EB0-9D500FD4A3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2895-0501-4B59-8A91-D6BB59B135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2CA5-9BE9-4679-AAED-33E2DBE537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739F-C34B-4237-A4A7-6F9B60529C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EC34-A9D9-4E6C-966B-8465178A8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96A0-8575-4DC4-9D12-1CCA98F37B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BE00-4778-48E8-93BA-9B214C84EF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341F-9287-47F0-9235-5744E0B051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2F09-7C56-425A-BC20-F204BB13F6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BC7D-B6ED-4DB9-ABDC-C8D29BF3FB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27AE-F832-4549-85CE-4B8B80A120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64535-E6D9-4987-ADD6-15DB036131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B0D25-F51F-4C7F-97F1-4ABFE56A2A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FDA0F-E1E2-40C4-B71A-B6F3324592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22E90-4308-4A2D-BCFC-EA2A1ED060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E3511-D3A0-4771-9BAD-ADA2CEFF8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9358-72C1-4D88-BFFA-E3641782B8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2D619-3092-4FF6-9935-ABDBDABA4B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111AC-E5FE-4274-9EBD-7DD662C364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649E7-480F-46A5-8171-688DA82CB4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E5E74-5FBD-48DA-84D4-E92C756A49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27B99-9BBE-4D86-B6BE-E30849AFB2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B5EBE-07EE-439E-80BC-66E3A9FFEC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6DAD4-F436-42BD-940B-9E2A0B7975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8364B6-E4A5-4660-B6D8-733FD9F381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2CBCF-8B59-47A2-9D6F-FAAEA4E32F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A6E4C-B1AE-4A3C-B77A-6C97E5C9B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6CDD-A370-46B1-A691-95812DAAB8A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552-6199-4FBA-8AC2-D84CA76DB80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2A5-4B5F-4BDA-B37D-383509289DE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4977-A224-4F95-B041-DDF46470892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48F-13AA-416D-9A13-92B0ABF8025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4648320" y="1600200"/>
          <a:ext cx="4267080" cy="28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267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7638-7D14-47C6-BA17-88F076DF22E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FB7-E68C-409C-AE89-FFACC069381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016B-B250-487C-A372-AADB1F2AAB5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0BF3-9C27-4912-B913-3A34C2DA1B9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559-42F1-460F-A505-3A00F876375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BEB-8327-42A5-8CBC-A612F89EDF7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8745-365D-4168-A41F-C4997FF47E3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411480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AI with simpleSAMLphp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61760" y="536220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arina Vermezovi</a:t>
            </a:r>
            <a:r>
              <a:rPr b="0" lang="sr-Latn-CS" sz="2400" spc="-1" strike="noStrike">
                <a:solidFill>
                  <a:srgbClr val="808080"/>
                </a:solidFill>
                <a:latin typeface="Trebuchet MS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Academic Network of Serbia -AM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EIFL, 15.12.201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86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Straight Arrow Connector 82"/>
          <p:cNvCxnSpPr>
            <a:endCxn id="692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3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09" name="Picture 140" descr=""/>
            <p:cNvPicPr/>
            <p:nvPr/>
          </p:nvPicPr>
          <p:blipFill>
            <a:blip r:embed="rId4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124"/>
          <p:cNvCxnSpPr>
            <a:endCxn id="702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12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13" name="Picture 136" descr=""/>
            <p:cNvPicPr/>
            <p:nvPr/>
          </p:nvPicPr>
          <p:blipFill>
            <a:blip r:embed="rId5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6E1-85C2-454F-A22A-88A0F00D434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26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Straight Arrow Connector 82"/>
          <p:cNvCxnSpPr>
            <a:endCxn id="728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29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 Same Side Corner Rectangle 96"/>
          <p:cNvSpPr/>
          <p:nvPr/>
        </p:nvSpPr>
        <p:spPr>
          <a:xfrm rot="16200000">
            <a:off x="4577400" y="2900880"/>
            <a:ext cx="380880" cy="49068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 Same Side Corner Rectangle 97"/>
          <p:cNvSpPr/>
          <p:nvPr/>
        </p:nvSpPr>
        <p:spPr>
          <a:xfrm rot="16200000">
            <a:off x="3944880" y="275904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98" descr="Database Icon 48px png"/>
          <p:cNvPicPr/>
          <p:nvPr/>
        </p:nvPicPr>
        <p:blipFill>
          <a:blip r:embed="rId4"/>
          <a:stretch/>
        </p:blipFill>
        <p:spPr>
          <a:xfrm>
            <a:off x="4214880" y="295272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74"/>
          <p:cNvSpPr/>
          <p:nvPr/>
        </p:nvSpPr>
        <p:spPr>
          <a:xfrm>
            <a:off x="3701880" y="297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5"/>
          <p:cNvSpPr/>
          <p:nvPr/>
        </p:nvSpPr>
        <p:spPr>
          <a:xfrm>
            <a:off x="4471920" y="2976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und Same Side Corner Rectangle 102"/>
          <p:cNvSpPr/>
          <p:nvPr/>
        </p:nvSpPr>
        <p:spPr>
          <a:xfrm rot="16200000">
            <a:off x="4572720" y="340560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 Same Side Corner Rectangle 103"/>
          <p:cNvSpPr/>
          <p:nvPr/>
        </p:nvSpPr>
        <p:spPr>
          <a:xfrm rot="16200000">
            <a:off x="3949560" y="326340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4" descr="Database Icon 48px png"/>
          <p:cNvPicPr/>
          <p:nvPr/>
        </p:nvPicPr>
        <p:blipFill>
          <a:blip r:embed="rId5"/>
          <a:stretch/>
        </p:blipFill>
        <p:spPr>
          <a:xfrm>
            <a:off x="4219560" y="345744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82"/>
          <p:cNvSpPr/>
          <p:nvPr/>
        </p:nvSpPr>
        <p:spPr>
          <a:xfrm>
            <a:off x="3706920" y="34783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83"/>
          <p:cNvSpPr/>
          <p:nvPr/>
        </p:nvSpPr>
        <p:spPr>
          <a:xfrm>
            <a:off x="4467240" y="3481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ound Same Side Corner Rectangle 108"/>
          <p:cNvSpPr/>
          <p:nvPr/>
        </p:nvSpPr>
        <p:spPr>
          <a:xfrm rot="16200000">
            <a:off x="4572720" y="484704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und Same Side Corner Rectangle 109"/>
          <p:cNvSpPr/>
          <p:nvPr/>
        </p:nvSpPr>
        <p:spPr>
          <a:xfrm rot="16200000">
            <a:off x="3949560" y="470484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10" descr="Database Icon 48px png"/>
          <p:cNvPicPr/>
          <p:nvPr/>
        </p:nvPicPr>
        <p:blipFill>
          <a:blip r:embed="rId6"/>
          <a:stretch/>
        </p:blipFill>
        <p:spPr>
          <a:xfrm>
            <a:off x="4219560" y="48988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88"/>
          <p:cNvSpPr/>
          <p:nvPr/>
        </p:nvSpPr>
        <p:spPr>
          <a:xfrm>
            <a:off x="3706920" y="491976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9"/>
          <p:cNvSpPr/>
          <p:nvPr/>
        </p:nvSpPr>
        <p:spPr>
          <a:xfrm>
            <a:off x="4467240" y="492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 Same Side Corner Rectangle 114"/>
          <p:cNvSpPr/>
          <p:nvPr/>
        </p:nvSpPr>
        <p:spPr>
          <a:xfrm rot="16200000">
            <a:off x="4567680" y="5374080"/>
            <a:ext cx="381240" cy="49032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 Same Side Corner Rectangle 115"/>
          <p:cNvSpPr/>
          <p:nvPr/>
        </p:nvSpPr>
        <p:spPr>
          <a:xfrm rot="16200000">
            <a:off x="3935520" y="523080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16" descr="Database Icon 48px png"/>
          <p:cNvPicPr/>
          <p:nvPr/>
        </p:nvPicPr>
        <p:blipFill>
          <a:blip r:embed="rId7"/>
          <a:stretch/>
        </p:blipFill>
        <p:spPr>
          <a:xfrm>
            <a:off x="4205160" y="54244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4"/>
          <p:cNvSpPr/>
          <p:nvPr/>
        </p:nvSpPr>
        <p:spPr>
          <a:xfrm>
            <a:off x="3692520" y="544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95"/>
          <p:cNvSpPr/>
          <p:nvPr/>
        </p:nvSpPr>
        <p:spPr>
          <a:xfrm>
            <a:off x="4462560" y="5448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119"/>
          <p:cNvCxnSpPr>
            <a:endCxn id="744" idx="1"/>
          </p:cNvCxnSpPr>
          <p:nvPr/>
        </p:nvCxnSpPr>
        <p:spPr>
          <a:xfrm>
            <a:off x="2331720" y="2313000"/>
            <a:ext cx="1370520" cy="82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5" name="Straight Arrow Connector 120"/>
          <p:cNvCxnSpPr>
            <a:endCxn id="750" idx="1"/>
          </p:cNvCxnSpPr>
          <p:nvPr/>
        </p:nvCxnSpPr>
        <p:spPr>
          <a:xfrm>
            <a:off x="2331720" y="2352600"/>
            <a:ext cx="1375560" cy="12945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6" name="Straight Arrow Connector 121"/>
          <p:cNvCxnSpPr>
            <a:endCxn id="762" idx="1"/>
          </p:cNvCxnSpPr>
          <p:nvPr/>
        </p:nvCxnSpPr>
        <p:spPr>
          <a:xfrm>
            <a:off x="2300040" y="2398680"/>
            <a:ext cx="1392840" cy="3215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67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68" name="Picture 140" descr=""/>
            <p:cNvPicPr/>
            <p:nvPr/>
          </p:nvPicPr>
          <p:blipFill>
            <a:blip r:embed="rId8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3"/>
          <p:cNvGrpSpPr/>
          <p:nvPr/>
        </p:nvGrpSpPr>
        <p:grpSpPr>
          <a:xfrm>
            <a:off x="3157560" y="2693880"/>
            <a:ext cx="447480" cy="457200"/>
            <a:chOff x="3157560" y="2693880"/>
            <a:chExt cx="447480" cy="457200"/>
          </a:xfrm>
        </p:grpSpPr>
        <p:pic>
          <p:nvPicPr>
            <p:cNvPr id="771" name="Picture 138" descr=""/>
            <p:cNvPicPr/>
            <p:nvPr/>
          </p:nvPicPr>
          <p:blipFill>
            <a:blip r:embed="rId9"/>
            <a:stretch/>
          </p:blipFill>
          <p:spPr>
            <a:xfrm>
              <a:off x="3157560" y="269388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139"/>
            <p:cNvSpPr/>
            <p:nvPr/>
          </p:nvSpPr>
          <p:spPr>
            <a:xfrm>
              <a:off x="3182760" y="27144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3" name="Straight Arrow Connector 124"/>
          <p:cNvCxnSpPr>
            <a:endCxn id="738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74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75" name="Picture 136" descr=""/>
            <p:cNvPicPr/>
            <p:nvPr/>
          </p:nvPicPr>
          <p:blipFill>
            <a:blip r:embed="rId10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26"/>
          <p:cNvGrpSpPr/>
          <p:nvPr/>
        </p:nvGrpSpPr>
        <p:grpSpPr>
          <a:xfrm>
            <a:off x="2519280" y="3517920"/>
            <a:ext cx="393840" cy="393840"/>
            <a:chOff x="2519280" y="3517920"/>
            <a:chExt cx="393840" cy="393840"/>
          </a:xfrm>
        </p:grpSpPr>
        <p:pic>
          <p:nvPicPr>
            <p:cNvPr id="778" name="Picture 134" descr=""/>
            <p:cNvPicPr/>
            <p:nvPr/>
          </p:nvPicPr>
          <p:blipFill>
            <a:blip r:embed="rId11"/>
            <a:stretch/>
          </p:blipFill>
          <p:spPr>
            <a:xfrm>
              <a:off x="2531880" y="353052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Oval 135"/>
            <p:cNvSpPr/>
            <p:nvPr/>
          </p:nvSpPr>
          <p:spPr>
            <a:xfrm>
              <a:off x="2519280" y="35179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0" name="Straight Arrow Connector 127"/>
          <p:cNvCxnSpPr>
            <a:endCxn id="756" idx="1"/>
          </p:cNvCxnSpPr>
          <p:nvPr/>
        </p:nvCxnSpPr>
        <p:spPr>
          <a:xfrm>
            <a:off x="2322360" y="2352600"/>
            <a:ext cx="1385280" cy="2736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81" name="Group 128"/>
          <p:cNvGrpSpPr/>
          <p:nvPr/>
        </p:nvGrpSpPr>
        <p:grpSpPr>
          <a:xfrm>
            <a:off x="2994120" y="3565440"/>
            <a:ext cx="393480" cy="393840"/>
            <a:chOff x="2994120" y="3565440"/>
            <a:chExt cx="393480" cy="393840"/>
          </a:xfrm>
        </p:grpSpPr>
        <p:pic>
          <p:nvPicPr>
            <p:cNvPr id="782" name="Picture 132" descr=""/>
            <p:cNvPicPr/>
            <p:nvPr/>
          </p:nvPicPr>
          <p:blipFill>
            <a:blip r:embed="rId12"/>
            <a:stretch/>
          </p:blipFill>
          <p:spPr>
            <a:xfrm>
              <a:off x="3003480" y="357660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Oval 133"/>
            <p:cNvSpPr/>
            <p:nvPr/>
          </p:nvSpPr>
          <p:spPr>
            <a:xfrm>
              <a:off x="2994120" y="3565440"/>
              <a:ext cx="39348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29"/>
          <p:cNvGrpSpPr/>
          <p:nvPr/>
        </p:nvGrpSpPr>
        <p:grpSpPr>
          <a:xfrm>
            <a:off x="3114720" y="3137040"/>
            <a:ext cx="447480" cy="457200"/>
            <a:chOff x="3114720" y="3137040"/>
            <a:chExt cx="447480" cy="457200"/>
          </a:xfrm>
        </p:grpSpPr>
        <p:pic>
          <p:nvPicPr>
            <p:cNvPr id="785" name="Picture 130" descr=""/>
            <p:cNvPicPr/>
            <p:nvPr/>
          </p:nvPicPr>
          <p:blipFill>
            <a:blip r:embed="rId13"/>
            <a:stretch/>
          </p:blipFill>
          <p:spPr>
            <a:xfrm>
              <a:off x="3114720" y="313704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Oval 131"/>
            <p:cNvSpPr/>
            <p:nvPr/>
          </p:nvSpPr>
          <p:spPr>
            <a:xfrm>
              <a:off x="3141360" y="31590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70E0-5561-424F-B817-49FC987BF1E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91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08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2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3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130"/>
          <p:cNvCxnSpPr>
            <a:endCxn id="84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4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5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56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62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130"/>
          <p:cNvCxnSpPr>
            <a:endCxn id="868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1" name="Straight Arrow Connector 131"/>
          <p:cNvCxnSpPr>
            <a:stCxn id="868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2" name="Straight Arrow Connector 132"/>
          <p:cNvCxnSpPr>
            <a:stCxn id="868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3" name="Straight Arrow Connector 133"/>
          <p:cNvCxnSpPr>
            <a:stCxn id="868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4" name="Straight Arrow Connector 134"/>
          <p:cNvCxnSpPr>
            <a:stCxn id="868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75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1" name="Straight Arrow Connector 141"/>
          <p:cNvCxnSpPr>
            <a:stCxn id="868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82" name="Straight Arrow Connector 142"/>
          <p:cNvCxnSpPr>
            <a:stCxn id="868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883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84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8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9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Straight Arrow Connector 130"/>
          <p:cNvCxnSpPr>
            <a:endCxn id="90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4" name="Straight Arrow Connector 131"/>
          <p:cNvCxnSpPr>
            <a:stCxn id="901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5" name="Straight Arrow Connector 132"/>
          <p:cNvCxnSpPr>
            <a:stCxn id="901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6" name="Straight Arrow Connector 133"/>
          <p:cNvCxnSpPr>
            <a:stCxn id="901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7" name="Straight Arrow Connector 134"/>
          <p:cNvCxnSpPr>
            <a:stCxn id="901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908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Straight Arrow Connector 141"/>
          <p:cNvCxnSpPr>
            <a:stCxn id="901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15" name="Straight Arrow Connector 142"/>
          <p:cNvCxnSpPr>
            <a:stCxn id="901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916" name="Group 143"/>
          <p:cNvGrpSpPr/>
          <p:nvPr/>
        </p:nvGrpSpPr>
        <p:grpSpPr>
          <a:xfrm>
            <a:off x="4557600" y="1916280"/>
            <a:ext cx="633600" cy="380880"/>
            <a:chOff x="4557600" y="1916280"/>
            <a:chExt cx="633600" cy="380880"/>
          </a:xfrm>
        </p:grpSpPr>
        <p:sp>
          <p:nvSpPr>
            <p:cNvPr id="917" name="TextBox 144"/>
            <p:cNvSpPr/>
            <p:nvPr/>
          </p:nvSpPr>
          <p:spPr>
            <a:xfrm>
              <a:off x="4557600" y="1925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ound Same Side Corner Rectangle 145"/>
            <p:cNvSpPr/>
            <p:nvPr/>
          </p:nvSpPr>
          <p:spPr>
            <a:xfrm rot="16200000">
              <a:off x="4688280" y="1861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146"/>
            <p:cNvSpPr/>
            <p:nvPr/>
          </p:nvSpPr>
          <p:spPr>
            <a:xfrm>
              <a:off x="4586040" y="19350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47"/>
          <p:cNvGrpSpPr/>
          <p:nvPr/>
        </p:nvGrpSpPr>
        <p:grpSpPr>
          <a:xfrm>
            <a:off x="4552920" y="2449080"/>
            <a:ext cx="633600" cy="381240"/>
            <a:chOff x="4552920" y="2449080"/>
            <a:chExt cx="633600" cy="381240"/>
          </a:xfrm>
        </p:grpSpPr>
        <p:sp>
          <p:nvSpPr>
            <p:cNvPr id="921" name="TextBox 148"/>
            <p:cNvSpPr/>
            <p:nvPr/>
          </p:nvSpPr>
          <p:spPr>
            <a:xfrm>
              <a:off x="4552920" y="2458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ound Same Side Corner Rectangle 149"/>
            <p:cNvSpPr/>
            <p:nvPr/>
          </p:nvSpPr>
          <p:spPr>
            <a:xfrm rot="16200000">
              <a:off x="4683600" y="2394360"/>
              <a:ext cx="381240" cy="490680"/>
            </a:xfrm>
            <a:custGeom>
              <a:avLst/>
              <a:gdLst>
                <a:gd name="textAreaLeft" fmla="*/ 18360 w 381240"/>
                <a:gd name="textAreaRight" fmla="*/ 362880 w 38124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Box 150"/>
            <p:cNvSpPr/>
            <p:nvPr/>
          </p:nvSpPr>
          <p:spPr>
            <a:xfrm>
              <a:off x="4581360" y="246816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51"/>
          <p:cNvGrpSpPr/>
          <p:nvPr/>
        </p:nvGrpSpPr>
        <p:grpSpPr>
          <a:xfrm>
            <a:off x="4557600" y="2982960"/>
            <a:ext cx="633600" cy="380880"/>
            <a:chOff x="4557600" y="2982960"/>
            <a:chExt cx="633600" cy="380880"/>
          </a:xfrm>
        </p:grpSpPr>
        <p:sp>
          <p:nvSpPr>
            <p:cNvPr id="925" name="TextBox 152"/>
            <p:cNvSpPr/>
            <p:nvPr/>
          </p:nvSpPr>
          <p:spPr>
            <a:xfrm>
              <a:off x="4557600" y="2992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 Same Side Corner Rectangle 153"/>
            <p:cNvSpPr/>
            <p:nvPr/>
          </p:nvSpPr>
          <p:spPr>
            <a:xfrm rot="16200000">
              <a:off x="4688280" y="292788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Box 154"/>
            <p:cNvSpPr/>
            <p:nvPr/>
          </p:nvSpPr>
          <p:spPr>
            <a:xfrm>
              <a:off x="4586040" y="300168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55"/>
          <p:cNvGrpSpPr/>
          <p:nvPr/>
        </p:nvGrpSpPr>
        <p:grpSpPr>
          <a:xfrm>
            <a:off x="4552920" y="3516480"/>
            <a:ext cx="633600" cy="380880"/>
            <a:chOff x="4552920" y="3516480"/>
            <a:chExt cx="633600" cy="380880"/>
          </a:xfrm>
        </p:grpSpPr>
        <p:sp>
          <p:nvSpPr>
            <p:cNvPr id="929" name="TextBox 156"/>
            <p:cNvSpPr/>
            <p:nvPr/>
          </p:nvSpPr>
          <p:spPr>
            <a:xfrm>
              <a:off x="4552920" y="3525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ound Same Side Corner Rectangle 157"/>
            <p:cNvSpPr/>
            <p:nvPr/>
          </p:nvSpPr>
          <p:spPr>
            <a:xfrm rot="16200000">
              <a:off x="4683600" y="34614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58"/>
            <p:cNvSpPr/>
            <p:nvPr/>
          </p:nvSpPr>
          <p:spPr>
            <a:xfrm>
              <a:off x="4581360" y="35352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9"/>
          <p:cNvGrpSpPr/>
          <p:nvPr/>
        </p:nvGrpSpPr>
        <p:grpSpPr>
          <a:xfrm>
            <a:off x="4552920" y="4854600"/>
            <a:ext cx="633600" cy="380880"/>
            <a:chOff x="4552920" y="4854600"/>
            <a:chExt cx="633600" cy="380880"/>
          </a:xfrm>
        </p:grpSpPr>
        <p:sp>
          <p:nvSpPr>
            <p:cNvPr id="933" name="TextBox 160"/>
            <p:cNvSpPr/>
            <p:nvPr/>
          </p:nvSpPr>
          <p:spPr>
            <a:xfrm>
              <a:off x="4552920" y="486396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ound Same Side Corner Rectangle 161"/>
            <p:cNvSpPr/>
            <p:nvPr/>
          </p:nvSpPr>
          <p:spPr>
            <a:xfrm rot="16200000">
              <a:off x="4683600" y="479952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Box 162"/>
            <p:cNvSpPr/>
            <p:nvPr/>
          </p:nvSpPr>
          <p:spPr>
            <a:xfrm>
              <a:off x="4581360" y="487332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3"/>
          <p:cNvGrpSpPr/>
          <p:nvPr/>
        </p:nvGrpSpPr>
        <p:grpSpPr>
          <a:xfrm>
            <a:off x="4548240" y="5345280"/>
            <a:ext cx="633240" cy="380880"/>
            <a:chOff x="4548240" y="5345280"/>
            <a:chExt cx="633240" cy="380880"/>
          </a:xfrm>
        </p:grpSpPr>
        <p:sp>
          <p:nvSpPr>
            <p:cNvPr id="937" name="TextBox 164"/>
            <p:cNvSpPr/>
            <p:nvPr/>
          </p:nvSpPr>
          <p:spPr>
            <a:xfrm>
              <a:off x="4548240" y="5354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ound Same Side Corner Rectangle 165"/>
            <p:cNvSpPr/>
            <p:nvPr/>
          </p:nvSpPr>
          <p:spPr>
            <a:xfrm rot="16200000">
              <a:off x="4678920" y="5290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Box 166"/>
            <p:cNvSpPr/>
            <p:nvPr/>
          </p:nvSpPr>
          <p:spPr>
            <a:xfrm>
              <a:off x="4576680" y="5364000"/>
              <a:ext cx="60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94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tent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AI and Federated Id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deration struct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MRES AAI deploy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4C19-F8CA-45CD-A6B5-A0FB9CF68EB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7"/>
          <p:cNvSpPr/>
          <p:nvPr/>
        </p:nvSpPr>
        <p:spPr>
          <a:xfrm>
            <a:off x="1654200" y="2975040"/>
            <a:ext cx="5834160" cy="271440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18"/>
          <p:cNvSpPr/>
          <p:nvPr/>
        </p:nvSpPr>
        <p:spPr>
          <a:xfrm>
            <a:off x="900000" y="289728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IRCLE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technology and softw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1066680" y="1142640"/>
            <a:ext cx="779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-facto standard in Academic identity federations: SAM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ibbole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Internet2 (U.S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P: Java, needs Tomc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P: C++, Apache modu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UNINETT (Norwa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IdP and SP, written in 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7010280" y="633744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720-F4AF-4484-86F3-FCF5DC7C4C8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041480" y="1104840"/>
            <a:ext cx="7619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key-point simpleSAMLphp functionalities 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t’s see what simpleSAMLphp can do from an example of user accessing web service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D7D-6EDE-4019-B82A-90736250648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protect Acces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066320" y="1142640"/>
            <a:ext cx="762012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access to resource only to legitimate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B29-4116-4800-8A1A-2432B0C82B7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" descr=""/>
          <p:cNvPicPr/>
          <p:nvPr/>
        </p:nvPicPr>
        <p:blipFill>
          <a:blip r:embed="rId2"/>
          <a:stretch/>
        </p:blipFill>
        <p:spPr>
          <a:xfrm>
            <a:off x="984240" y="2322360"/>
            <a:ext cx="76662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819E-2D39-4D59-A70F-3284C7ABDF1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"/>
          <p:cNvPicPr/>
          <p:nvPr/>
        </p:nvPicPr>
        <p:blipFill>
          <a:blip r:embed="rId5"/>
          <a:stretch/>
        </p:blipFill>
        <p:spPr>
          <a:xfrm>
            <a:off x="1728720" y="2784600"/>
            <a:ext cx="63514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built-in discovery service on SP side; works by displaying IdP entries from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531-43A8-4063-AEC0-23ED7020B41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3" descr=""/>
          <p:cNvPicPr/>
          <p:nvPr/>
        </p:nvPicPr>
        <p:blipFill>
          <a:blip r:embed="rId7"/>
          <a:stretch/>
        </p:blipFill>
        <p:spPr>
          <a:xfrm>
            <a:off x="1641600" y="3422520"/>
            <a:ext cx="6216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1066320" y="1142640"/>
            <a:ext cx="76201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s redirected to IdP site, where she is asked to enter u/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us process of authentication is star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5698-D03C-4874-B961-1965907C2EE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6" descr=""/>
          <p:cNvPicPr/>
          <p:nvPr/>
        </p:nvPicPr>
        <p:blipFill>
          <a:blip r:embed="rId3"/>
          <a:stretch/>
        </p:blipFill>
        <p:spPr>
          <a:xfrm>
            <a:off x="1117440" y="2103480"/>
            <a:ext cx="7780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066320" y="1142640"/>
            <a:ext cx="78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IdP gets u/p, IdP must authenticate user against some data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thentication methods that come with simpleSAMLphp distribu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st of username/passwor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en ID, Facebook, Tweeter, MySpace, LinkedIn,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don’t find your authentication source on the list, you can make custom authentication mo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9BD-404B-4A6C-AA5C-8F5F1BFFAD4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53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dp point of view..  - Identity Managemen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gardless in which database user Identities are stored, it is important that data about user is corr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M : 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et of procedures and rules which defin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o has the right to own digital ident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is digital identity assigned to a p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digital identity maintain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us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terminat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ust comply with national personal data protection la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4D2-811B-4E3E-BBA3-F3D47CBE745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872-4EFE-4F3B-890E-3DEC55D0270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ttribute Releas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900000" y="1142640"/>
            <a:ext cx="804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ter user is authenticated, IdP can release some attributes about user to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 some principles are important 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 rule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only attributes which SP really nee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attributes upon pre-agreed syntax (schema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simpleSAMLphp, IdP can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lter out a subset of available attributes that are sent to a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dify name or values of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new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te new attributes that are composed of ot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3FCF-CFA6-43C5-BEA2-1CAC344FEE3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fore Attribute Release, IdP can ask user about consent for releasing user ‘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very important from the perspective of national and international laws about protection of user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—data should not be disclosed without the data subject’s consent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309-4663-4088-8A7A-A8A8B419CE6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62FC-3AC0-4A8D-9F2A-BF3213207A6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1992240" y="1611360"/>
            <a:ext cx="5465880" cy="4979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10663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 module is available in simpleSAML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735-C6E2-499A-9C43-E59753B2375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055-D6D1-455C-911E-4B7DE478A01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 gets some additional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users e-mail address to send e-mail notif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C88-BF12-4611-87A0-2C39F44A105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Federation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 possibilit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ing one is very important because it heavily depends on state institutions are in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041E-6855-4C1D-8575-8C77FBECF2F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E92-2D7C-4D51-8661-6F5E09CECAB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6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826920" y="622296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2F5-97E1-4AB3-B9AA-4E017AF8E79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8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ounded Rectangle 29"/>
          <p:cNvSpPr/>
          <p:nvPr/>
        </p:nvSpPr>
        <p:spPr>
          <a:xfrm>
            <a:off x="1052640" y="389736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ounded Rectangle 30"/>
          <p:cNvSpPr/>
          <p:nvPr/>
        </p:nvSpPr>
        <p:spPr>
          <a:xfrm>
            <a:off x="1125360" y="3954600"/>
            <a:ext cx="2422800" cy="168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ounded Rectangle 31"/>
          <p:cNvSpPr/>
          <p:nvPr/>
        </p:nvSpPr>
        <p:spPr>
          <a:xfrm>
            <a:off x="2314440" y="5218200"/>
            <a:ext cx="11559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ounded Rectangle 32"/>
          <p:cNvSpPr/>
          <p:nvPr/>
        </p:nvSpPr>
        <p:spPr>
          <a:xfrm>
            <a:off x="2322360" y="48261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ounded Rectangle 33"/>
          <p:cNvSpPr/>
          <p:nvPr/>
        </p:nvSpPr>
        <p:spPr>
          <a:xfrm>
            <a:off x="1168560" y="57546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4"/>
          <p:cNvSpPr/>
          <p:nvPr/>
        </p:nvSpPr>
        <p:spPr>
          <a:xfrm>
            <a:off x="1109520" y="57722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5" descr="Database Icon 48px png"/>
          <p:cNvPicPr/>
          <p:nvPr/>
        </p:nvPicPr>
        <p:blipFill>
          <a:blip r:embed="rId2"/>
          <a:stretch/>
        </p:blipFill>
        <p:spPr>
          <a:xfrm>
            <a:off x="2427120" y="57531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90" name="Rounded Rectangle 36"/>
          <p:cNvSpPr/>
          <p:nvPr/>
        </p:nvSpPr>
        <p:spPr>
          <a:xfrm>
            <a:off x="2328840" y="4427640"/>
            <a:ext cx="1154160" cy="3585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ounded Rectangle 37"/>
          <p:cNvSpPr/>
          <p:nvPr/>
        </p:nvSpPr>
        <p:spPr>
          <a:xfrm>
            <a:off x="2308320" y="40132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ounded Rectangle 47"/>
          <p:cNvSpPr/>
          <p:nvPr/>
        </p:nvSpPr>
        <p:spPr>
          <a:xfrm>
            <a:off x="6095880" y="3852720"/>
            <a:ext cx="2548080" cy="15973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ounded Rectangle 48"/>
          <p:cNvSpPr/>
          <p:nvPr/>
        </p:nvSpPr>
        <p:spPr>
          <a:xfrm>
            <a:off x="6175440" y="390528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ounded Rectangle 49"/>
          <p:cNvSpPr/>
          <p:nvPr/>
        </p:nvSpPr>
        <p:spPr>
          <a:xfrm>
            <a:off x="6219720" y="4005360"/>
            <a:ext cx="127656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ounded Rectangle 50"/>
          <p:cNvSpPr/>
          <p:nvPr/>
        </p:nvSpPr>
        <p:spPr>
          <a:xfrm>
            <a:off x="6226200" y="4579920"/>
            <a:ext cx="127800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52"/>
          <p:cNvSpPr/>
          <p:nvPr/>
        </p:nvSpPr>
        <p:spPr>
          <a:xfrm>
            <a:off x="3527280" y="1828800"/>
            <a:ext cx="2641680" cy="888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53"/>
          <p:cNvSpPr/>
          <p:nvPr/>
        </p:nvSpPr>
        <p:spPr>
          <a:xfrm flipV="1">
            <a:off x="3548160" y="4510080"/>
            <a:ext cx="262728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55"/>
          <p:cNvSpPr/>
          <p:nvPr/>
        </p:nvSpPr>
        <p:spPr>
          <a:xfrm flipV="1">
            <a:off x="3548160" y="2717280"/>
            <a:ext cx="2620800" cy="207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58"/>
          <p:cNvSpPr/>
          <p:nvPr/>
        </p:nvSpPr>
        <p:spPr>
          <a:xfrm>
            <a:off x="3527280" y="1828800"/>
            <a:ext cx="2648160" cy="26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D2A-7004-4FAC-BA43-BA3DE312A13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1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F4A-D2E6-430C-9DC4-BFB3E7EA25D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D5F-004B-4869-B989-579216F660B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3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ounded Rectangle 47"/>
          <p:cNvSpPr/>
          <p:nvPr/>
        </p:nvSpPr>
        <p:spPr>
          <a:xfrm>
            <a:off x="6575400" y="356400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ounded Rectangle 48"/>
          <p:cNvSpPr/>
          <p:nvPr/>
        </p:nvSpPr>
        <p:spPr>
          <a:xfrm>
            <a:off x="6654960" y="361476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ounded Rectangle 49"/>
          <p:cNvSpPr/>
          <p:nvPr/>
        </p:nvSpPr>
        <p:spPr>
          <a:xfrm>
            <a:off x="6697800" y="3716280"/>
            <a:ext cx="127764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ounded Rectangle 50"/>
          <p:cNvSpPr/>
          <p:nvPr/>
        </p:nvSpPr>
        <p:spPr>
          <a:xfrm>
            <a:off x="6705720" y="428940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ounded Rectangle 45"/>
          <p:cNvSpPr/>
          <p:nvPr/>
        </p:nvSpPr>
        <p:spPr>
          <a:xfrm>
            <a:off x="0" y="3665520"/>
            <a:ext cx="2293920" cy="20750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ounded Rectangle 46"/>
          <p:cNvSpPr/>
          <p:nvPr/>
        </p:nvSpPr>
        <p:spPr>
          <a:xfrm>
            <a:off x="73080" y="3781440"/>
            <a:ext cx="2162160" cy="84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ounded Rectangle 51"/>
          <p:cNvSpPr/>
          <p:nvPr/>
        </p:nvSpPr>
        <p:spPr>
          <a:xfrm>
            <a:off x="115920" y="473868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4"/>
          <p:cNvSpPr/>
          <p:nvPr/>
        </p:nvSpPr>
        <p:spPr>
          <a:xfrm>
            <a:off x="57240" y="475632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5" descr="Database Icon 48px png"/>
          <p:cNvPicPr/>
          <p:nvPr/>
        </p:nvPicPr>
        <p:blipFill>
          <a:blip r:embed="rId2"/>
          <a:stretch/>
        </p:blipFill>
        <p:spPr>
          <a:xfrm>
            <a:off x="1374840" y="473724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47" name="Rounded Rectangle 57"/>
          <p:cNvSpPr/>
          <p:nvPr/>
        </p:nvSpPr>
        <p:spPr>
          <a:xfrm>
            <a:off x="1227240" y="4027320"/>
            <a:ext cx="9493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62"/>
          <p:cNvSpPr/>
          <p:nvPr/>
        </p:nvSpPr>
        <p:spPr>
          <a:xfrm flipV="1">
            <a:off x="2293920" y="3581280"/>
            <a:ext cx="579600" cy="112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69"/>
          <p:cNvSpPr/>
          <p:nvPr/>
        </p:nvSpPr>
        <p:spPr>
          <a:xfrm flipH="1" flipV="1">
            <a:off x="6197400" y="3581280"/>
            <a:ext cx="377640" cy="779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E03-CF70-48E0-AD29-D156A53E5D3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68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9A56-3D4A-40AB-A806-70059045A04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89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21"/>
          <p:cNvSpPr/>
          <p:nvPr/>
        </p:nvSpPr>
        <p:spPr>
          <a:xfrm>
            <a:off x="58680" y="4361040"/>
            <a:ext cx="2075040" cy="135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ounded Rectangle 22"/>
          <p:cNvSpPr/>
          <p:nvPr/>
        </p:nvSpPr>
        <p:spPr>
          <a:xfrm>
            <a:off x="101520" y="462276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26"/>
          <p:cNvSpPr/>
          <p:nvPr/>
        </p:nvSpPr>
        <p:spPr>
          <a:xfrm>
            <a:off x="42840" y="4640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5" descr="Database Icon 48px png"/>
          <p:cNvPicPr/>
          <p:nvPr/>
        </p:nvPicPr>
        <p:blipFill>
          <a:blip r:embed="rId2"/>
          <a:stretch/>
        </p:blipFill>
        <p:spPr>
          <a:xfrm>
            <a:off x="1360440" y="46213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96" name="Rounded Rectangle 28"/>
          <p:cNvSpPr/>
          <p:nvPr/>
        </p:nvSpPr>
        <p:spPr>
          <a:xfrm>
            <a:off x="6553080" y="4187880"/>
            <a:ext cx="25480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ounded Rectangle 29"/>
          <p:cNvSpPr/>
          <p:nvPr/>
        </p:nvSpPr>
        <p:spPr>
          <a:xfrm>
            <a:off x="6632640" y="423864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ounded Rectangle 30"/>
          <p:cNvSpPr/>
          <p:nvPr/>
        </p:nvSpPr>
        <p:spPr>
          <a:xfrm>
            <a:off x="6676920" y="4340160"/>
            <a:ext cx="127656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ounded Rectangle 31"/>
          <p:cNvSpPr/>
          <p:nvPr/>
        </p:nvSpPr>
        <p:spPr>
          <a:xfrm>
            <a:off x="6683400" y="491328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traight Connector 35"/>
          <p:cNvSpPr/>
          <p:nvPr/>
        </p:nvSpPr>
        <p:spPr>
          <a:xfrm flipV="1">
            <a:off x="2133720" y="4179600"/>
            <a:ext cx="1103040" cy="857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traight Connector 44"/>
          <p:cNvSpPr/>
          <p:nvPr/>
        </p:nvSpPr>
        <p:spPr>
          <a:xfrm flipH="1" flipV="1">
            <a:off x="5661000" y="4179960"/>
            <a:ext cx="892080" cy="806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was our start poi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 administrators have less knowle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s have different databases =&gt; no centralized fed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institution has its own S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decided for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-mesh with making it as much as possible lightweight: metadata management tool, attribute release recommendations,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0ED-9B46-4C7D-8157-0865CAB9B55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066320" y="1143000"/>
            <a:ext cx="7620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have  set-up test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xt step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hands-on workshop with few chosen institutions which will continue in PILOT AA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experiences in PILOT, evaluate chosen solution, make some changes if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 PRODUCTION, continue with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/deploy new user services which would attract institut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9425-F0CD-4426-B526-85F16EDA65A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5264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or write 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marina.vermezovic@rcub.bg.ac.rs</a:t>
            </a:r>
            <a:r>
              <a:rPr b="0" lang="sr-Latn-C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71A-18F7-46EC-BDBE-E86DE2565FE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4A6-0A11-4A77-9A0E-DB5E88574F9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o is your user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at she can d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A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Authentication and authorization infrastructure makes access to protected services eas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7D9-B5B7-4049-83A6-7D396176B1D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14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10D-D4B1-4535-BB7F-5C27E2429DC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Straight Arrow Connector 82"/>
          <p:cNvCxnSpPr>
            <a:endCxn id="639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40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50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D43-B874-49C3-82E9-4423EA3C0E0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59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82"/>
          <p:cNvCxnSpPr>
            <a:endCxn id="665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66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77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0DF-12B8-4F6B-A4A3-200D829465D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11:59Z</dcterms:created>
  <dc:creator>Marina Vermezovic</dc:creator>
  <dc:description/>
  <dc:language>en-US</dc:language>
  <cp:lastModifiedBy>Morganti</cp:lastModifiedBy>
  <dcterms:modified xsi:type="dcterms:W3CDTF">2014-08-25T14:36:12Z</dcterms:modified>
  <cp:revision>893</cp:revision>
  <dc:subject/>
  <dc:title>rsEdu schema V2.0</dc:title>
</cp:coreProperties>
</file>